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797FB-57D1-470E-A1C2-6A3A97BF4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2132B-8500-4D33-A13E-5D9CB782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E1C07-C152-461D-B51B-DBAB74028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8DCF0-4F16-4FD5-93BC-C33CA0DD8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2C90-CE25-4947-A4D3-96C254C8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7B53-829D-4345-A878-A08DC9E9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10DD-78A7-448C-873C-D0BA6ADB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8710-9A3A-47D3-9099-A2E4E390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A2D5-1B28-46BA-9770-11F35498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3338-946F-4A92-8619-5F1D204C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A954-8EF5-43E4-B981-D7723045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85EC-7858-48BD-9964-CD2AA52B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DEF8-E89F-4902-884B-EFF8C0394AC4}"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996F5BF0-A8B1-4B60-B78A-88E4179A85D2}" type="datetime10">
              <a:rPr b="0" lang="en-US" sz="1400" spc="-1" strike="noStrike">
                <a:solidFill>
                  <a:srgbClr val="000000"/>
                </a:solidFill>
                <a:latin typeface="Times New Roman"/>
              </a:rPr>
              <a:t>10:3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AE5C-6AFD-4614-8466-3A3F46296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108AD4E-1E93-4A70-A9C9-F12FAA006FD3}" type="slidenum">
              <a:t>1</a:t>
            </a:fld>
          </a:p>
        </p:txBody>
      </p:sp>
      <p:sp>
        <p:nvSpPr>
          <p:cNvPr id="6" name="PlaceHolder 5"/>
          <p:cNvSpPr>
            <a:spLocks noGrp="1"/>
          </p:cNvSpPr>
          <p:nvPr>
            <p:ph type="dt" idx="1"/>
          </p:nvPr>
        </p:nvSpPr>
        <p:spPr/>
        <p:txBody>
          <a:bodyPr/>
          <a:p>
            <a:fld id="{F9756FBA-3153-4A97-8C41-B87030DD9EF5}" type="datetime8">
              <a:rPr lang="en-US"/>
              <a:t>07/31/26 10:35</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3030E4B-B75E-46B5-BC3C-66BB4A273966}" type="slidenum">
              <a:t>10</a:t>
            </a:fld>
          </a:p>
        </p:txBody>
      </p:sp>
      <p:sp>
        <p:nvSpPr>
          <p:cNvPr id="6" name="PlaceHolder 5"/>
          <p:cNvSpPr>
            <a:spLocks noGrp="1"/>
          </p:cNvSpPr>
          <p:nvPr>
            <p:ph type="dt" idx="1"/>
          </p:nvPr>
        </p:nvSpPr>
        <p:spPr/>
        <p:txBody>
          <a:bodyPr/>
          <a:p>
            <a:fld id="{61C1B8A4-41A5-4875-AA6A-6350F3DEE519}" type="datetime8">
              <a:rPr lang="en-US"/>
              <a:t>07/31/26 10:3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19D0DB4-43CB-4DA1-9783-DC13FA92D68E}" type="slidenum">
              <a:t>11</a:t>
            </a:fld>
          </a:p>
        </p:txBody>
      </p:sp>
      <p:sp>
        <p:nvSpPr>
          <p:cNvPr id="6" name="PlaceHolder 5"/>
          <p:cNvSpPr>
            <a:spLocks noGrp="1"/>
          </p:cNvSpPr>
          <p:nvPr>
            <p:ph type="dt" idx="1"/>
          </p:nvPr>
        </p:nvSpPr>
        <p:spPr/>
        <p:txBody>
          <a:bodyPr/>
          <a:p>
            <a:fld id="{69FB1862-637F-43E2-8744-EA09F7C4D14A}" type="datetime8">
              <a:rPr lang="en-US"/>
              <a:t>07/31/26 10:3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8C0C858-562F-48B8-A083-1A5EEA2B53C0}" type="slidenum">
              <a:t>12</a:t>
            </a:fld>
          </a:p>
        </p:txBody>
      </p:sp>
      <p:sp>
        <p:nvSpPr>
          <p:cNvPr id="6" name="PlaceHolder 5"/>
          <p:cNvSpPr>
            <a:spLocks noGrp="1"/>
          </p:cNvSpPr>
          <p:nvPr>
            <p:ph type="dt" idx="1"/>
          </p:nvPr>
        </p:nvSpPr>
        <p:spPr/>
        <p:txBody>
          <a:bodyPr/>
          <a:p>
            <a:fld id="{DDC56DE5-CDAE-49CE-B182-711BAB13AE45}" type="datetime8">
              <a:rPr lang="en-US"/>
              <a:t>07/31/26 10:3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0B1DBAD-11DD-4F21-A667-763503794465}" type="slidenum">
              <a:t>13</a:t>
            </a:fld>
          </a:p>
        </p:txBody>
      </p:sp>
      <p:sp>
        <p:nvSpPr>
          <p:cNvPr id="6" name="PlaceHolder 5"/>
          <p:cNvSpPr>
            <a:spLocks noGrp="1"/>
          </p:cNvSpPr>
          <p:nvPr>
            <p:ph type="dt" idx="1"/>
          </p:nvPr>
        </p:nvSpPr>
        <p:spPr/>
        <p:txBody>
          <a:bodyPr/>
          <a:p>
            <a:fld id="{0166F582-79B0-480E-B34E-29B0D1D6DEEC}" type="datetime8">
              <a:rPr lang="en-US"/>
              <a:t>07/31/26 10:3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DCE0ABE-C029-4FF9-859A-91B829AB7B09}" type="slidenum">
              <a:t>2</a:t>
            </a:fld>
          </a:p>
        </p:txBody>
      </p:sp>
      <p:sp>
        <p:nvSpPr>
          <p:cNvPr id="6" name="PlaceHolder 5"/>
          <p:cNvSpPr>
            <a:spLocks noGrp="1"/>
          </p:cNvSpPr>
          <p:nvPr>
            <p:ph type="dt" idx="1"/>
          </p:nvPr>
        </p:nvSpPr>
        <p:spPr/>
        <p:txBody>
          <a:bodyPr/>
          <a:p>
            <a:fld id="{03E4A18D-4EFB-42DC-9FB0-74C9C71AB628}" type="datetime8">
              <a:rPr lang="en-US"/>
              <a:t>07/31/26 10:3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794AE7D-B351-478B-8834-CE5795952C7B}" type="slidenum">
              <a:t>3</a:t>
            </a:fld>
          </a:p>
        </p:txBody>
      </p:sp>
      <p:sp>
        <p:nvSpPr>
          <p:cNvPr id="6" name="PlaceHolder 5"/>
          <p:cNvSpPr>
            <a:spLocks noGrp="1"/>
          </p:cNvSpPr>
          <p:nvPr>
            <p:ph type="dt" idx="1"/>
          </p:nvPr>
        </p:nvSpPr>
        <p:spPr/>
        <p:txBody>
          <a:bodyPr/>
          <a:p>
            <a:fld id="{D5D2B822-CA7B-45C4-91A6-AA7F3FAFD32E}" type="datetime8">
              <a:rPr lang="en-US"/>
              <a:t>07/31/26 10: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3594684-BE5F-4E09-95D3-300665BDFE16}" type="slidenum">
              <a:t>4</a:t>
            </a:fld>
          </a:p>
        </p:txBody>
      </p:sp>
      <p:sp>
        <p:nvSpPr>
          <p:cNvPr id="6" name="PlaceHolder 5"/>
          <p:cNvSpPr>
            <a:spLocks noGrp="1"/>
          </p:cNvSpPr>
          <p:nvPr>
            <p:ph type="dt" idx="1"/>
          </p:nvPr>
        </p:nvSpPr>
        <p:spPr/>
        <p:txBody>
          <a:bodyPr/>
          <a:p>
            <a:fld id="{8B8B278D-673B-486B-9453-8998A31EB7DE}" type="datetime8">
              <a:rPr lang="en-US"/>
              <a:t>07/31/26 10:3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C861FDB-611D-467A-949A-0E0CEE60ED7A}" type="slidenum">
              <a:t>5</a:t>
            </a:fld>
          </a:p>
        </p:txBody>
      </p:sp>
      <p:sp>
        <p:nvSpPr>
          <p:cNvPr id="6" name="PlaceHolder 5"/>
          <p:cNvSpPr>
            <a:spLocks noGrp="1"/>
          </p:cNvSpPr>
          <p:nvPr>
            <p:ph type="dt" idx="1"/>
          </p:nvPr>
        </p:nvSpPr>
        <p:spPr/>
        <p:txBody>
          <a:bodyPr/>
          <a:p>
            <a:fld id="{E5505521-A1F9-4BB7-B846-A2E951926B7F}" type="datetime8">
              <a:rPr lang="en-US"/>
              <a:t>07/31/26 10:3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BB41774-13E0-46B2-A080-F2CEBF8A31AF}" type="slidenum">
              <a:t>6</a:t>
            </a:fld>
          </a:p>
        </p:txBody>
      </p:sp>
      <p:sp>
        <p:nvSpPr>
          <p:cNvPr id="6" name="PlaceHolder 5"/>
          <p:cNvSpPr>
            <a:spLocks noGrp="1"/>
          </p:cNvSpPr>
          <p:nvPr>
            <p:ph type="dt" idx="1"/>
          </p:nvPr>
        </p:nvSpPr>
        <p:spPr/>
        <p:txBody>
          <a:bodyPr/>
          <a:p>
            <a:fld id="{19E82A01-6D41-4B18-B4AB-7EED2EF10B98}" type="datetime8">
              <a:rPr lang="en-US"/>
              <a:t>07/31/26 10:3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46556FC-1CFA-4CEB-A2AF-A00C66E257D2}" type="slidenum">
              <a:t>7</a:t>
            </a:fld>
          </a:p>
        </p:txBody>
      </p:sp>
      <p:sp>
        <p:nvSpPr>
          <p:cNvPr id="6" name="PlaceHolder 5"/>
          <p:cNvSpPr>
            <a:spLocks noGrp="1"/>
          </p:cNvSpPr>
          <p:nvPr>
            <p:ph type="dt" idx="1"/>
          </p:nvPr>
        </p:nvSpPr>
        <p:spPr/>
        <p:txBody>
          <a:bodyPr/>
          <a:p>
            <a:fld id="{542B9CDA-0741-49BC-A72E-D0C2E683B23B}" type="datetime8">
              <a:rPr lang="en-US"/>
              <a:t>07/31/26 10:3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9191AB9-DE28-4E2F-914B-8F7287655A0B}" type="slidenum">
              <a:t>8</a:t>
            </a:fld>
          </a:p>
        </p:txBody>
      </p:sp>
      <p:sp>
        <p:nvSpPr>
          <p:cNvPr id="6" name="PlaceHolder 5"/>
          <p:cNvSpPr>
            <a:spLocks noGrp="1"/>
          </p:cNvSpPr>
          <p:nvPr>
            <p:ph type="dt" idx="1"/>
          </p:nvPr>
        </p:nvSpPr>
        <p:spPr/>
        <p:txBody>
          <a:bodyPr/>
          <a:p>
            <a:fld id="{59E3DA0B-3D03-4681-AD48-09A57D0256E7}" type="datetime8">
              <a:rPr lang="en-US"/>
              <a:t>07/31/26 10:3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28AE908-2C2E-4F61-9CD1-58DD3CA69471}" type="slidenum">
              <a:t>9</a:t>
            </a:fld>
          </a:p>
        </p:txBody>
      </p:sp>
      <p:sp>
        <p:nvSpPr>
          <p:cNvPr id="6" name="PlaceHolder 5"/>
          <p:cNvSpPr>
            <a:spLocks noGrp="1"/>
          </p:cNvSpPr>
          <p:nvPr>
            <p:ph type="dt" idx="1"/>
          </p:nvPr>
        </p:nvSpPr>
        <p:spPr/>
        <p:txBody>
          <a:bodyPr/>
          <a:p>
            <a:fld id="{889A6A8E-D62E-4E69-8196-BCA846B5855C}" type="datetime8">
              <a:rPr lang="en-US"/>
              <a:t>07/31/26 10:3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