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E9A4F-B0D6-45A6-98EE-BAE9BD495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B359-E9FA-4F0F-AA7C-136FE8644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531FD-2B9E-40FF-AC83-6D6BE672C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B36D9-83B4-4A4A-92D8-7704A5DDC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46BD3-0BF8-4A02-9D08-CEDA6BD1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5E909-0A7C-49FE-B7F3-E26A31855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0128-670A-44A2-8D9C-041ADA6F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380F-A097-4596-8F21-8FAD1D90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65AC4-05B1-4184-8FBD-1008E4C21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C5CD-7356-49B7-AD35-85EAA48C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2375-AF7F-4223-ABB1-F338C7A7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3AF51-ACAC-4DED-816B-2711FAF2B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E520-BD26-4C3F-80D6-43A5B759D851}"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19FE09B5-E07E-4BEE-8B00-23FB18257491}" type="datetime10">
              <a:rPr b="0" lang="en-US" sz="1400" spc="-1" strike="noStrike">
                <a:solidFill>
                  <a:srgbClr val="000000"/>
                </a:solidFill>
                <a:latin typeface="Times New Roman"/>
              </a:rPr>
              <a:t>03:1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FF4C-B91D-4EB3-A2EA-8ECF6BCD4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7D0B953-AADC-4AE5-BBB2-52503BD05072}" type="slidenum">
              <a:t>1</a:t>
            </a:fld>
          </a:p>
        </p:txBody>
      </p:sp>
      <p:sp>
        <p:nvSpPr>
          <p:cNvPr id="6" name="PlaceHolder 5"/>
          <p:cNvSpPr>
            <a:spLocks noGrp="1"/>
          </p:cNvSpPr>
          <p:nvPr>
            <p:ph type="dt" idx="1"/>
          </p:nvPr>
        </p:nvSpPr>
        <p:spPr/>
        <p:txBody>
          <a:bodyPr/>
          <a:p>
            <a:fld id="{55156F95-38CE-4463-BD7F-836683533BC6}" type="datetime8">
              <a:rPr lang="en-US"/>
              <a:t>07/29/26 03:1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8E320FA-E6BF-4DEE-8497-9A802A46030B}" type="slidenum">
              <a:t>10</a:t>
            </a:fld>
          </a:p>
        </p:txBody>
      </p:sp>
      <p:sp>
        <p:nvSpPr>
          <p:cNvPr id="6" name="PlaceHolder 5"/>
          <p:cNvSpPr>
            <a:spLocks noGrp="1"/>
          </p:cNvSpPr>
          <p:nvPr>
            <p:ph type="dt" idx="1"/>
          </p:nvPr>
        </p:nvSpPr>
        <p:spPr/>
        <p:txBody>
          <a:bodyPr/>
          <a:p>
            <a:fld id="{566A5143-6CCA-4504-B51D-D63518175A11}" type="datetime8">
              <a:rPr lang="en-US"/>
              <a:t>07/29/26 03:1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27E54E8-C53A-4026-97BD-BD250360F71E}" type="slidenum">
              <a:t>11</a:t>
            </a:fld>
          </a:p>
        </p:txBody>
      </p:sp>
      <p:sp>
        <p:nvSpPr>
          <p:cNvPr id="6" name="PlaceHolder 5"/>
          <p:cNvSpPr>
            <a:spLocks noGrp="1"/>
          </p:cNvSpPr>
          <p:nvPr>
            <p:ph type="dt" idx="1"/>
          </p:nvPr>
        </p:nvSpPr>
        <p:spPr/>
        <p:txBody>
          <a:bodyPr/>
          <a:p>
            <a:fld id="{60AB6A85-0B00-4C1D-967A-6DFAFA545B55}" type="datetime8">
              <a:rPr lang="en-US"/>
              <a:t>07/29/26 03:1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68EEA3E-A161-4AC5-AF76-3D6512DCF209}" type="slidenum">
              <a:t>12</a:t>
            </a:fld>
          </a:p>
        </p:txBody>
      </p:sp>
      <p:sp>
        <p:nvSpPr>
          <p:cNvPr id="6" name="PlaceHolder 5"/>
          <p:cNvSpPr>
            <a:spLocks noGrp="1"/>
          </p:cNvSpPr>
          <p:nvPr>
            <p:ph type="dt" idx="1"/>
          </p:nvPr>
        </p:nvSpPr>
        <p:spPr/>
        <p:txBody>
          <a:bodyPr/>
          <a:p>
            <a:fld id="{5423C505-511B-4C70-93F8-976F317B6478}" type="datetime8">
              <a:rPr lang="en-US"/>
              <a:t>07/29/26 03:1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9B45A10-CE00-414C-B84B-05971A423EDD}" type="slidenum">
              <a:t>13</a:t>
            </a:fld>
          </a:p>
        </p:txBody>
      </p:sp>
      <p:sp>
        <p:nvSpPr>
          <p:cNvPr id="6" name="PlaceHolder 5"/>
          <p:cNvSpPr>
            <a:spLocks noGrp="1"/>
          </p:cNvSpPr>
          <p:nvPr>
            <p:ph type="dt" idx="1"/>
          </p:nvPr>
        </p:nvSpPr>
        <p:spPr/>
        <p:txBody>
          <a:bodyPr/>
          <a:p>
            <a:fld id="{F4A856A9-DCA2-439E-A899-A71FB5E3DCD3}" type="datetime8">
              <a:rPr lang="en-US"/>
              <a:t>07/29/26 03: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5D42F9B-50A6-4C61-9BD7-4B49BEFCCD0C}" type="slidenum">
              <a:t>2</a:t>
            </a:fld>
          </a:p>
        </p:txBody>
      </p:sp>
      <p:sp>
        <p:nvSpPr>
          <p:cNvPr id="6" name="PlaceHolder 5"/>
          <p:cNvSpPr>
            <a:spLocks noGrp="1"/>
          </p:cNvSpPr>
          <p:nvPr>
            <p:ph type="dt" idx="1"/>
          </p:nvPr>
        </p:nvSpPr>
        <p:spPr/>
        <p:txBody>
          <a:bodyPr/>
          <a:p>
            <a:fld id="{CA4FE52F-6BE0-4BB4-A41A-6B1A74DF6539}" type="datetime8">
              <a:rPr lang="en-US"/>
              <a:t>07/29/26 03:1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159665B-81C9-4631-A4CC-2B279118B019}" type="slidenum">
              <a:t>3</a:t>
            </a:fld>
          </a:p>
        </p:txBody>
      </p:sp>
      <p:sp>
        <p:nvSpPr>
          <p:cNvPr id="6" name="PlaceHolder 5"/>
          <p:cNvSpPr>
            <a:spLocks noGrp="1"/>
          </p:cNvSpPr>
          <p:nvPr>
            <p:ph type="dt" idx="1"/>
          </p:nvPr>
        </p:nvSpPr>
        <p:spPr/>
        <p:txBody>
          <a:bodyPr/>
          <a:p>
            <a:fld id="{F4D086A3-A6E3-451E-AA7A-0D6B2D075781}" type="datetime8">
              <a:rPr lang="en-US"/>
              <a:t>07/29/26 03:1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A89B999-C79C-486A-8944-DA332DB75C4B}" type="slidenum">
              <a:t>4</a:t>
            </a:fld>
          </a:p>
        </p:txBody>
      </p:sp>
      <p:sp>
        <p:nvSpPr>
          <p:cNvPr id="6" name="PlaceHolder 5"/>
          <p:cNvSpPr>
            <a:spLocks noGrp="1"/>
          </p:cNvSpPr>
          <p:nvPr>
            <p:ph type="dt" idx="1"/>
          </p:nvPr>
        </p:nvSpPr>
        <p:spPr/>
        <p:txBody>
          <a:bodyPr/>
          <a:p>
            <a:fld id="{1AEE85A3-0E2A-4E56-BFC9-F3CDAEAB220B}" type="datetime8">
              <a:rPr lang="en-US"/>
              <a:t>07/29/26 03:1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FAB63E7-6306-4DB8-8697-B28915443EF1}" type="slidenum">
              <a:t>5</a:t>
            </a:fld>
          </a:p>
        </p:txBody>
      </p:sp>
      <p:sp>
        <p:nvSpPr>
          <p:cNvPr id="6" name="PlaceHolder 5"/>
          <p:cNvSpPr>
            <a:spLocks noGrp="1"/>
          </p:cNvSpPr>
          <p:nvPr>
            <p:ph type="dt" idx="1"/>
          </p:nvPr>
        </p:nvSpPr>
        <p:spPr/>
        <p:txBody>
          <a:bodyPr/>
          <a:p>
            <a:fld id="{8376F437-2FCE-4286-84A7-3B43196B464C}" type="datetime8">
              <a:rPr lang="en-US"/>
              <a:t>07/29/26 03:1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51E4F88-50CC-4B63-B572-83CE82AEA1F6}" type="slidenum">
              <a:t>6</a:t>
            </a:fld>
          </a:p>
        </p:txBody>
      </p:sp>
      <p:sp>
        <p:nvSpPr>
          <p:cNvPr id="6" name="PlaceHolder 5"/>
          <p:cNvSpPr>
            <a:spLocks noGrp="1"/>
          </p:cNvSpPr>
          <p:nvPr>
            <p:ph type="dt" idx="1"/>
          </p:nvPr>
        </p:nvSpPr>
        <p:spPr/>
        <p:txBody>
          <a:bodyPr/>
          <a:p>
            <a:fld id="{E4B91940-A181-46A2-8458-5450B279A0F7}" type="datetime8">
              <a:rPr lang="en-US"/>
              <a:t>07/29/26 03:1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62F363E-1527-4493-94E4-F50300894780}" type="slidenum">
              <a:t>7</a:t>
            </a:fld>
          </a:p>
        </p:txBody>
      </p:sp>
      <p:sp>
        <p:nvSpPr>
          <p:cNvPr id="6" name="PlaceHolder 5"/>
          <p:cNvSpPr>
            <a:spLocks noGrp="1"/>
          </p:cNvSpPr>
          <p:nvPr>
            <p:ph type="dt" idx="1"/>
          </p:nvPr>
        </p:nvSpPr>
        <p:spPr/>
        <p:txBody>
          <a:bodyPr/>
          <a:p>
            <a:fld id="{E90C9501-2E8E-4F48-AB5D-5BE0D44B66F1}" type="datetime8">
              <a:rPr lang="en-US"/>
              <a:t>07/29/26 03:1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F97D2B8-E6D6-495A-BAF6-837FF236EC1D}" type="slidenum">
              <a:t>8</a:t>
            </a:fld>
          </a:p>
        </p:txBody>
      </p:sp>
      <p:sp>
        <p:nvSpPr>
          <p:cNvPr id="6" name="PlaceHolder 5"/>
          <p:cNvSpPr>
            <a:spLocks noGrp="1"/>
          </p:cNvSpPr>
          <p:nvPr>
            <p:ph type="dt" idx="1"/>
          </p:nvPr>
        </p:nvSpPr>
        <p:spPr/>
        <p:txBody>
          <a:bodyPr/>
          <a:p>
            <a:fld id="{460C4FA2-E6FB-4CEF-BEF6-2707521219EB}" type="datetime8">
              <a:rPr lang="en-US"/>
              <a:t>07/29/26 03:1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92F4F129-6ED5-4B96-9A7A-8E1EBB398FFF}" type="slidenum">
              <a:t>9</a:t>
            </a:fld>
          </a:p>
        </p:txBody>
      </p:sp>
      <p:sp>
        <p:nvSpPr>
          <p:cNvPr id="6" name="PlaceHolder 5"/>
          <p:cNvSpPr>
            <a:spLocks noGrp="1"/>
          </p:cNvSpPr>
          <p:nvPr>
            <p:ph type="dt" idx="1"/>
          </p:nvPr>
        </p:nvSpPr>
        <p:spPr/>
        <p:txBody>
          <a:bodyPr/>
          <a:p>
            <a:fld id="{611D358B-D07E-4AFE-8133-033524417067}" type="datetime8">
              <a:rPr lang="en-US"/>
              <a:t>07/29/26 03:1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