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14202-1674-4AD7-9B36-B9CDE47F6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C0D0-0408-4749-A831-98C34C68B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9A6E2-9580-467B-A9EB-A746E9D5C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3A939-C644-4C13-8C34-602BEC7C0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0F801-CB7F-46CE-A7F5-35343F25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B27B-47A5-4986-B7BA-AA9E10A8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DCCEF-A4FB-4E91-897C-F34F330C0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FA3B-99B0-42C4-A2B2-992E7AB4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AD8D-1DA3-404C-A9E8-B3620404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B3DB-48C9-4EAD-8835-13EEBD43C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B9F8-E443-4772-BFB1-9FA205A5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0728-5E9B-4D69-8860-1BDCDFCCD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1C14-DA9B-45AA-91A4-C90C93B37A49}"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41579718-6910-491F-9E9C-2072FAC5B7E6}" type="datetime10">
              <a:rPr b="0" lang="en-US" sz="1400" spc="-1" strike="noStrike">
                <a:solidFill>
                  <a:srgbClr val="000000"/>
                </a:solidFill>
                <a:latin typeface="Times New Roman"/>
              </a:rPr>
              <a:t>07:5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B865-95AE-47D2-935B-5E8806655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98C852F-479B-4308-B1B3-6E53CF8342D7}" type="slidenum">
              <a:t>1</a:t>
            </a:fld>
          </a:p>
        </p:txBody>
      </p:sp>
      <p:sp>
        <p:nvSpPr>
          <p:cNvPr id="6" name="PlaceHolder 5"/>
          <p:cNvSpPr>
            <a:spLocks noGrp="1"/>
          </p:cNvSpPr>
          <p:nvPr>
            <p:ph type="dt" idx="1"/>
          </p:nvPr>
        </p:nvSpPr>
        <p:spPr/>
        <p:txBody>
          <a:bodyPr/>
          <a:p>
            <a:fld id="{2DA67B74-57D1-4DA4-A1DC-6B4536A73ED8}" type="datetime8">
              <a:rPr lang="en-US"/>
              <a:t>07/30/26 07:53</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C28B67E-684E-463A-B573-6B9D04512130}" type="slidenum">
              <a:t>10</a:t>
            </a:fld>
          </a:p>
        </p:txBody>
      </p:sp>
      <p:sp>
        <p:nvSpPr>
          <p:cNvPr id="6" name="PlaceHolder 5"/>
          <p:cNvSpPr>
            <a:spLocks noGrp="1"/>
          </p:cNvSpPr>
          <p:nvPr>
            <p:ph type="dt" idx="1"/>
          </p:nvPr>
        </p:nvSpPr>
        <p:spPr/>
        <p:txBody>
          <a:bodyPr/>
          <a:p>
            <a:fld id="{FBA18A8B-A173-4C67-A563-4C7046CD4203}" type="datetime8">
              <a:rPr lang="en-US"/>
              <a:t>07/30/26 07:5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F34DB6C-45E0-4E17-A4ED-2B301564CC73}" type="slidenum">
              <a:t>11</a:t>
            </a:fld>
          </a:p>
        </p:txBody>
      </p:sp>
      <p:sp>
        <p:nvSpPr>
          <p:cNvPr id="6" name="PlaceHolder 5"/>
          <p:cNvSpPr>
            <a:spLocks noGrp="1"/>
          </p:cNvSpPr>
          <p:nvPr>
            <p:ph type="dt" idx="1"/>
          </p:nvPr>
        </p:nvSpPr>
        <p:spPr/>
        <p:txBody>
          <a:bodyPr/>
          <a:p>
            <a:fld id="{A065EEE2-3107-4883-89EC-BF82C3BBE6EC}" type="datetime8">
              <a:rPr lang="en-US"/>
              <a:t>07/30/26 07:53</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566B91D-AC90-4872-A9B4-7884F0630C29}" type="slidenum">
              <a:t>12</a:t>
            </a:fld>
          </a:p>
        </p:txBody>
      </p:sp>
      <p:sp>
        <p:nvSpPr>
          <p:cNvPr id="6" name="PlaceHolder 5"/>
          <p:cNvSpPr>
            <a:spLocks noGrp="1"/>
          </p:cNvSpPr>
          <p:nvPr>
            <p:ph type="dt" idx="1"/>
          </p:nvPr>
        </p:nvSpPr>
        <p:spPr/>
        <p:txBody>
          <a:bodyPr/>
          <a:p>
            <a:fld id="{BB32EFDB-7811-498B-8C83-5BFADABDEC44}" type="datetime8">
              <a:rPr lang="en-US"/>
              <a:t>07/30/26 07:5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60BC4C6-BA90-4A42-8698-5DDA974809ED}" type="slidenum">
              <a:t>13</a:t>
            </a:fld>
          </a:p>
        </p:txBody>
      </p:sp>
      <p:sp>
        <p:nvSpPr>
          <p:cNvPr id="6" name="PlaceHolder 5"/>
          <p:cNvSpPr>
            <a:spLocks noGrp="1"/>
          </p:cNvSpPr>
          <p:nvPr>
            <p:ph type="dt" idx="1"/>
          </p:nvPr>
        </p:nvSpPr>
        <p:spPr/>
        <p:txBody>
          <a:bodyPr/>
          <a:p>
            <a:fld id="{FEC8367D-6185-425D-8EF8-E63AEFBD7DA0}" type="datetime8">
              <a:rPr lang="en-US"/>
              <a:t>07/30/26 07:5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DAAD236-64BA-4276-B23D-29A73C97167C}" type="slidenum">
              <a:t>2</a:t>
            </a:fld>
          </a:p>
        </p:txBody>
      </p:sp>
      <p:sp>
        <p:nvSpPr>
          <p:cNvPr id="6" name="PlaceHolder 5"/>
          <p:cNvSpPr>
            <a:spLocks noGrp="1"/>
          </p:cNvSpPr>
          <p:nvPr>
            <p:ph type="dt" idx="1"/>
          </p:nvPr>
        </p:nvSpPr>
        <p:spPr/>
        <p:txBody>
          <a:bodyPr/>
          <a:p>
            <a:fld id="{8039E756-0154-4EBF-9F64-6655FA8A688F}" type="datetime8">
              <a:rPr lang="en-US"/>
              <a:t>07/30/26 07:5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8970962-6FDC-48ED-89AC-D3C84DC66E02}" type="slidenum">
              <a:t>3</a:t>
            </a:fld>
          </a:p>
        </p:txBody>
      </p:sp>
      <p:sp>
        <p:nvSpPr>
          <p:cNvPr id="6" name="PlaceHolder 5"/>
          <p:cNvSpPr>
            <a:spLocks noGrp="1"/>
          </p:cNvSpPr>
          <p:nvPr>
            <p:ph type="dt" idx="1"/>
          </p:nvPr>
        </p:nvSpPr>
        <p:spPr/>
        <p:txBody>
          <a:bodyPr/>
          <a:p>
            <a:fld id="{8D12DA52-D74E-4641-9952-7DD42D0858A0}" type="datetime8">
              <a:rPr lang="en-US"/>
              <a:t>07/30/26 07:5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086C4DB-BD23-4D7D-9FD1-3C472E530BCC}" type="slidenum">
              <a:t>4</a:t>
            </a:fld>
          </a:p>
        </p:txBody>
      </p:sp>
      <p:sp>
        <p:nvSpPr>
          <p:cNvPr id="6" name="PlaceHolder 5"/>
          <p:cNvSpPr>
            <a:spLocks noGrp="1"/>
          </p:cNvSpPr>
          <p:nvPr>
            <p:ph type="dt" idx="1"/>
          </p:nvPr>
        </p:nvSpPr>
        <p:spPr/>
        <p:txBody>
          <a:bodyPr/>
          <a:p>
            <a:fld id="{CD51530B-7ADF-46D0-987D-8B92BAC503E7}" type="datetime8">
              <a:rPr lang="en-US"/>
              <a:t>07/30/26 07:5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7B2DE25-8CC6-44D6-AF69-33B887009CDA}" type="slidenum">
              <a:t>5</a:t>
            </a:fld>
          </a:p>
        </p:txBody>
      </p:sp>
      <p:sp>
        <p:nvSpPr>
          <p:cNvPr id="6" name="PlaceHolder 5"/>
          <p:cNvSpPr>
            <a:spLocks noGrp="1"/>
          </p:cNvSpPr>
          <p:nvPr>
            <p:ph type="dt" idx="1"/>
          </p:nvPr>
        </p:nvSpPr>
        <p:spPr/>
        <p:txBody>
          <a:bodyPr/>
          <a:p>
            <a:fld id="{C7E767CC-3103-43AD-B888-11FEB9FF82C0}" type="datetime8">
              <a:rPr lang="en-US"/>
              <a:t>07/30/26 07: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BD16EF5-D072-43E4-8D8B-40E954A5D7D9}" type="slidenum">
              <a:t>6</a:t>
            </a:fld>
          </a:p>
        </p:txBody>
      </p:sp>
      <p:sp>
        <p:nvSpPr>
          <p:cNvPr id="6" name="PlaceHolder 5"/>
          <p:cNvSpPr>
            <a:spLocks noGrp="1"/>
          </p:cNvSpPr>
          <p:nvPr>
            <p:ph type="dt" idx="1"/>
          </p:nvPr>
        </p:nvSpPr>
        <p:spPr/>
        <p:txBody>
          <a:bodyPr/>
          <a:p>
            <a:fld id="{C936389F-384A-422E-8BA9-B54226349C6C}" type="datetime8">
              <a:rPr lang="en-US"/>
              <a:t>07/30/26 07:5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9DEC252-5D22-49FB-A80D-F8674E31C743}" type="slidenum">
              <a:t>7</a:t>
            </a:fld>
          </a:p>
        </p:txBody>
      </p:sp>
      <p:sp>
        <p:nvSpPr>
          <p:cNvPr id="6" name="PlaceHolder 5"/>
          <p:cNvSpPr>
            <a:spLocks noGrp="1"/>
          </p:cNvSpPr>
          <p:nvPr>
            <p:ph type="dt" idx="1"/>
          </p:nvPr>
        </p:nvSpPr>
        <p:spPr/>
        <p:txBody>
          <a:bodyPr/>
          <a:p>
            <a:fld id="{16524652-F199-4BE5-87A1-A53D6B881C13}" type="datetime8">
              <a:rPr lang="en-US"/>
              <a:t>07/30/26 07:5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E9223F2-C29D-4801-AC04-4C4C1E88592D}" type="slidenum">
              <a:t>8</a:t>
            </a:fld>
          </a:p>
        </p:txBody>
      </p:sp>
      <p:sp>
        <p:nvSpPr>
          <p:cNvPr id="6" name="PlaceHolder 5"/>
          <p:cNvSpPr>
            <a:spLocks noGrp="1"/>
          </p:cNvSpPr>
          <p:nvPr>
            <p:ph type="dt" idx="1"/>
          </p:nvPr>
        </p:nvSpPr>
        <p:spPr/>
        <p:txBody>
          <a:bodyPr/>
          <a:p>
            <a:fld id="{DF7A7FF8-DE54-4ED2-852B-9E7585B96174}" type="datetime8">
              <a:rPr lang="en-US"/>
              <a:t>07/30/26 07:5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6BB051B-FDD3-4151-A3EE-DC1D076EC09C}" type="slidenum">
              <a:t>9</a:t>
            </a:fld>
          </a:p>
        </p:txBody>
      </p:sp>
      <p:sp>
        <p:nvSpPr>
          <p:cNvPr id="6" name="PlaceHolder 5"/>
          <p:cNvSpPr>
            <a:spLocks noGrp="1"/>
          </p:cNvSpPr>
          <p:nvPr>
            <p:ph type="dt" idx="1"/>
          </p:nvPr>
        </p:nvSpPr>
        <p:spPr/>
        <p:txBody>
          <a:bodyPr/>
          <a:p>
            <a:fld id="{83B02C0A-ABEE-4246-BF33-784B74335882}" type="datetime8">
              <a:rPr lang="en-US"/>
              <a:t>07/30/26 07:5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