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46740-F1A6-4611-8965-74C78DBFA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4B9C3-51F9-409E-AF51-5F3AEDD94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47367-7F6B-4917-B65E-7B816B13F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DD7A5-F4FB-4003-82C5-B1A864513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50567-742A-4D1F-B4FF-E2E463CD9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986FD-676F-4089-8B32-E8A675F36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C1EE9-A375-4C14-9FBA-61877FA95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E463B-3D3E-4277-83D5-E6E2AF9C0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55477-4FE8-41E5-B4B7-855F89EA3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09982-9371-4C45-BCBB-4AF123F98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B667E-DAF8-4291-A729-8C7690840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FE59-EC56-4FF3-B00F-0BBE479B0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92B4-D221-471A-8559-31947D2FDDB2}"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51936A0B-7022-4E18-83A0-E5857D82722E}" type="datetime10">
              <a:rPr b="0" lang="en-US" sz="1400" spc="-1" strike="noStrike">
                <a:solidFill>
                  <a:srgbClr val="000000"/>
                </a:solidFill>
                <a:latin typeface="Times New Roman"/>
              </a:rPr>
              <a:t>04:3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8A74-B440-4C04-9816-94EC5DE90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E50BE29-2772-4972-BE5B-EDAA14C01647}" type="slidenum">
              <a:t>1</a:t>
            </a:fld>
          </a:p>
        </p:txBody>
      </p:sp>
      <p:sp>
        <p:nvSpPr>
          <p:cNvPr id="6" name="PlaceHolder 5"/>
          <p:cNvSpPr>
            <a:spLocks noGrp="1"/>
          </p:cNvSpPr>
          <p:nvPr>
            <p:ph type="dt" idx="1"/>
          </p:nvPr>
        </p:nvSpPr>
        <p:spPr/>
        <p:txBody>
          <a:bodyPr/>
          <a:p>
            <a:fld id="{2B3C1963-B716-4377-AD92-EAF61BBAC001}" type="datetime8">
              <a:rPr lang="en-US"/>
              <a:t>07/29/26 04:39</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4D6A5F9-F769-479F-9EB7-556938AF740A}" type="slidenum">
              <a:t>10</a:t>
            </a:fld>
          </a:p>
        </p:txBody>
      </p:sp>
      <p:sp>
        <p:nvSpPr>
          <p:cNvPr id="6" name="PlaceHolder 5"/>
          <p:cNvSpPr>
            <a:spLocks noGrp="1"/>
          </p:cNvSpPr>
          <p:nvPr>
            <p:ph type="dt" idx="1"/>
          </p:nvPr>
        </p:nvSpPr>
        <p:spPr/>
        <p:txBody>
          <a:bodyPr/>
          <a:p>
            <a:fld id="{68DA49FB-217D-4503-A941-A549A0EB41D0}" type="datetime8">
              <a:rPr lang="en-US"/>
              <a:t>07/29/26 04:3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616AFF4-81ED-4D89-A023-63A845A213A4}" type="slidenum">
              <a:t>11</a:t>
            </a:fld>
          </a:p>
        </p:txBody>
      </p:sp>
      <p:sp>
        <p:nvSpPr>
          <p:cNvPr id="6" name="PlaceHolder 5"/>
          <p:cNvSpPr>
            <a:spLocks noGrp="1"/>
          </p:cNvSpPr>
          <p:nvPr>
            <p:ph type="dt" idx="1"/>
          </p:nvPr>
        </p:nvSpPr>
        <p:spPr/>
        <p:txBody>
          <a:bodyPr/>
          <a:p>
            <a:fld id="{29DCD811-0B09-4750-AF4C-67457982E175}" type="datetime8">
              <a:rPr lang="en-US"/>
              <a:t>07/29/26 04:3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15C792E4-0298-4E8E-9617-2674ABE9A884}" type="slidenum">
              <a:t>12</a:t>
            </a:fld>
          </a:p>
        </p:txBody>
      </p:sp>
      <p:sp>
        <p:nvSpPr>
          <p:cNvPr id="6" name="PlaceHolder 5"/>
          <p:cNvSpPr>
            <a:spLocks noGrp="1"/>
          </p:cNvSpPr>
          <p:nvPr>
            <p:ph type="dt" idx="1"/>
          </p:nvPr>
        </p:nvSpPr>
        <p:spPr/>
        <p:txBody>
          <a:bodyPr/>
          <a:p>
            <a:fld id="{F4FF3A17-D4F7-4D63-B67F-EDB730BA0A8F}" type="datetime8">
              <a:rPr lang="en-US"/>
              <a:t>07/29/26 04:3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0F56042-178C-4FEE-BD42-D186A8055F27}" type="slidenum">
              <a:t>13</a:t>
            </a:fld>
          </a:p>
        </p:txBody>
      </p:sp>
      <p:sp>
        <p:nvSpPr>
          <p:cNvPr id="6" name="PlaceHolder 5"/>
          <p:cNvSpPr>
            <a:spLocks noGrp="1"/>
          </p:cNvSpPr>
          <p:nvPr>
            <p:ph type="dt" idx="1"/>
          </p:nvPr>
        </p:nvSpPr>
        <p:spPr/>
        <p:txBody>
          <a:bodyPr/>
          <a:p>
            <a:fld id="{C3BE943E-A68F-4397-A7F6-9125AC01AD79}" type="datetime8">
              <a:rPr lang="en-US"/>
              <a:t>07/29/26 04:3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BA4BEF0-3D8F-4DC4-98D4-1683737B72DE}" type="slidenum">
              <a:t>2</a:t>
            </a:fld>
          </a:p>
        </p:txBody>
      </p:sp>
      <p:sp>
        <p:nvSpPr>
          <p:cNvPr id="6" name="PlaceHolder 5"/>
          <p:cNvSpPr>
            <a:spLocks noGrp="1"/>
          </p:cNvSpPr>
          <p:nvPr>
            <p:ph type="dt" idx="1"/>
          </p:nvPr>
        </p:nvSpPr>
        <p:spPr/>
        <p:txBody>
          <a:bodyPr/>
          <a:p>
            <a:fld id="{7A23FB48-80D8-45BD-A1C3-0367F6F92254}" type="datetime8">
              <a:rPr lang="en-US"/>
              <a:t>07/29/26 04:3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98395E53-3F89-4697-90ED-FE5BC0B382B0}" type="slidenum">
              <a:t>3</a:t>
            </a:fld>
          </a:p>
        </p:txBody>
      </p:sp>
      <p:sp>
        <p:nvSpPr>
          <p:cNvPr id="6" name="PlaceHolder 5"/>
          <p:cNvSpPr>
            <a:spLocks noGrp="1"/>
          </p:cNvSpPr>
          <p:nvPr>
            <p:ph type="dt" idx="1"/>
          </p:nvPr>
        </p:nvSpPr>
        <p:spPr/>
        <p:txBody>
          <a:bodyPr/>
          <a:p>
            <a:fld id="{A85464B3-1C0E-4F20-ADF7-05A9B497BA3C}" type="datetime8">
              <a:rPr lang="en-US"/>
              <a:t>07/29/26 04: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0364826-B120-4773-AAC9-77F44AAA5146}" type="slidenum">
              <a:t>4</a:t>
            </a:fld>
          </a:p>
        </p:txBody>
      </p:sp>
      <p:sp>
        <p:nvSpPr>
          <p:cNvPr id="6" name="PlaceHolder 5"/>
          <p:cNvSpPr>
            <a:spLocks noGrp="1"/>
          </p:cNvSpPr>
          <p:nvPr>
            <p:ph type="dt" idx="1"/>
          </p:nvPr>
        </p:nvSpPr>
        <p:spPr/>
        <p:txBody>
          <a:bodyPr/>
          <a:p>
            <a:fld id="{ED962A26-F97B-4C0D-884F-899C0C95C30C}" type="datetime8">
              <a:rPr lang="en-US"/>
              <a:t>07/29/26 04:3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5EE2239-B550-4A29-B667-0AD86FE9D080}" type="slidenum">
              <a:t>5</a:t>
            </a:fld>
          </a:p>
        </p:txBody>
      </p:sp>
      <p:sp>
        <p:nvSpPr>
          <p:cNvPr id="6" name="PlaceHolder 5"/>
          <p:cNvSpPr>
            <a:spLocks noGrp="1"/>
          </p:cNvSpPr>
          <p:nvPr>
            <p:ph type="dt" idx="1"/>
          </p:nvPr>
        </p:nvSpPr>
        <p:spPr/>
        <p:txBody>
          <a:bodyPr/>
          <a:p>
            <a:fld id="{AE48B26F-4E0B-4B87-878B-3D746BF75BC7}" type="datetime8">
              <a:rPr lang="en-US"/>
              <a:t>07/29/26 04:3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1299C08-C538-44C1-AEB1-6917C0F6C78D}" type="slidenum">
              <a:t>6</a:t>
            </a:fld>
          </a:p>
        </p:txBody>
      </p:sp>
      <p:sp>
        <p:nvSpPr>
          <p:cNvPr id="6" name="PlaceHolder 5"/>
          <p:cNvSpPr>
            <a:spLocks noGrp="1"/>
          </p:cNvSpPr>
          <p:nvPr>
            <p:ph type="dt" idx="1"/>
          </p:nvPr>
        </p:nvSpPr>
        <p:spPr/>
        <p:txBody>
          <a:bodyPr/>
          <a:p>
            <a:fld id="{F72C24F2-6CC0-4260-A082-37E7C014163B}" type="datetime8">
              <a:rPr lang="en-US"/>
              <a:t>07/29/26 04:3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85C85B0-717B-45B1-ABA4-9715097626FC}" type="slidenum">
              <a:t>7</a:t>
            </a:fld>
          </a:p>
        </p:txBody>
      </p:sp>
      <p:sp>
        <p:nvSpPr>
          <p:cNvPr id="6" name="PlaceHolder 5"/>
          <p:cNvSpPr>
            <a:spLocks noGrp="1"/>
          </p:cNvSpPr>
          <p:nvPr>
            <p:ph type="dt" idx="1"/>
          </p:nvPr>
        </p:nvSpPr>
        <p:spPr/>
        <p:txBody>
          <a:bodyPr/>
          <a:p>
            <a:fld id="{56E9CA3A-CFDE-4F9E-945F-E4D2989D74F0}" type="datetime8">
              <a:rPr lang="en-US"/>
              <a:t>07/29/26 04:3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8553EA4-A7E0-4406-BFF0-92EC7623E8ED}" type="slidenum">
              <a:t>8</a:t>
            </a:fld>
          </a:p>
        </p:txBody>
      </p:sp>
      <p:sp>
        <p:nvSpPr>
          <p:cNvPr id="6" name="PlaceHolder 5"/>
          <p:cNvSpPr>
            <a:spLocks noGrp="1"/>
          </p:cNvSpPr>
          <p:nvPr>
            <p:ph type="dt" idx="1"/>
          </p:nvPr>
        </p:nvSpPr>
        <p:spPr/>
        <p:txBody>
          <a:bodyPr/>
          <a:p>
            <a:fld id="{F58146CE-4470-4E28-83E9-BF65ABCED530}" type="datetime8">
              <a:rPr lang="en-US"/>
              <a:t>07/29/26 04:3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B923F10-FBC4-4D77-88A7-7B438C58FEC2}" type="slidenum">
              <a:t>9</a:t>
            </a:fld>
          </a:p>
        </p:txBody>
      </p:sp>
      <p:sp>
        <p:nvSpPr>
          <p:cNvPr id="6" name="PlaceHolder 5"/>
          <p:cNvSpPr>
            <a:spLocks noGrp="1"/>
          </p:cNvSpPr>
          <p:nvPr>
            <p:ph type="dt" idx="1"/>
          </p:nvPr>
        </p:nvSpPr>
        <p:spPr/>
        <p:txBody>
          <a:bodyPr/>
          <a:p>
            <a:fld id="{3E7B8290-76D7-482F-BCAD-9EFC8128A6B0}" type="datetime8">
              <a:rPr lang="en-US"/>
              <a:t>07/29/26 04:3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