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63B4A-6A7B-41CC-A718-6E3775023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83395-E4F9-493D-B17E-EDC820CBE3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8A0A2-39E5-46BD-B57B-0EDB25EDA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B97B32-3AED-46D9-AED9-CA656C9F2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4BC5A-EE52-4D95-A4BF-AE21D38D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345C-D86A-4C6F-9FCA-307BAFDB4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FA28-7635-4E9F-8C05-F535798A0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380E7-58FF-4207-AA8E-004CA5274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A3517-08F6-4188-99F7-942668B2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A0604-5BA5-446F-B686-CEE0D33E7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B815D-D530-4295-ABFF-74724B989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DC958-1112-47C7-A64F-364C8AD30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6C23F-616F-487A-B9E1-FD9B272B8ECF}"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7D943608-CFFA-4FB7-B7DA-FCD5CB09C558}" type="datetime10">
              <a:rPr b="0" lang="en-US" sz="1400" spc="-1" strike="noStrike">
                <a:solidFill>
                  <a:srgbClr val="000000"/>
                </a:solidFill>
                <a:latin typeface="Times New Roman"/>
              </a:rPr>
              <a:t>10:45</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6B2E-5B5E-4EBD-86AC-FCF587AB9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694360EF-142E-4710-9423-C6AF31DAF5CA}" type="slidenum">
              <a:t>1</a:t>
            </a:fld>
          </a:p>
        </p:txBody>
      </p:sp>
      <p:sp>
        <p:nvSpPr>
          <p:cNvPr id="6" name="PlaceHolder 5"/>
          <p:cNvSpPr>
            <a:spLocks noGrp="1"/>
          </p:cNvSpPr>
          <p:nvPr>
            <p:ph type="dt" idx="1"/>
          </p:nvPr>
        </p:nvSpPr>
        <p:spPr/>
        <p:txBody>
          <a:bodyPr/>
          <a:p>
            <a:fld id="{54B9E0E8-800B-4624-B9B4-1482F2723AE0}" type="datetime8">
              <a:rPr lang="en-US"/>
              <a:t>07/28/26 10:45</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E1F2F13-1F58-4AB8-9C4E-051F868965F1}" type="slidenum">
              <a:t>10</a:t>
            </a:fld>
          </a:p>
        </p:txBody>
      </p:sp>
      <p:sp>
        <p:nvSpPr>
          <p:cNvPr id="6" name="PlaceHolder 5"/>
          <p:cNvSpPr>
            <a:spLocks noGrp="1"/>
          </p:cNvSpPr>
          <p:nvPr>
            <p:ph type="dt" idx="1"/>
          </p:nvPr>
        </p:nvSpPr>
        <p:spPr/>
        <p:txBody>
          <a:bodyPr/>
          <a:p>
            <a:fld id="{66D46369-6B71-463D-B78E-219EB0E9E8EB}" type="datetime8">
              <a:rPr lang="en-US"/>
              <a:t>07/28/26 10:4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E1EE690-D7E4-47A8-A4A2-336B43CA1970}" type="slidenum">
              <a:t>11</a:t>
            </a:fld>
          </a:p>
        </p:txBody>
      </p:sp>
      <p:sp>
        <p:nvSpPr>
          <p:cNvPr id="6" name="PlaceHolder 5"/>
          <p:cNvSpPr>
            <a:spLocks noGrp="1"/>
          </p:cNvSpPr>
          <p:nvPr>
            <p:ph type="dt" idx="1"/>
          </p:nvPr>
        </p:nvSpPr>
        <p:spPr/>
        <p:txBody>
          <a:bodyPr/>
          <a:p>
            <a:fld id="{2701463F-D036-4C19-93BC-3E8FE55973D2}" type="datetime8">
              <a:rPr lang="en-US"/>
              <a:t>07/28/26 10:45</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612CB9A-97AD-4504-8DC9-7E3459ACF6C7}" type="slidenum">
              <a:t>12</a:t>
            </a:fld>
          </a:p>
        </p:txBody>
      </p:sp>
      <p:sp>
        <p:nvSpPr>
          <p:cNvPr id="6" name="PlaceHolder 5"/>
          <p:cNvSpPr>
            <a:spLocks noGrp="1"/>
          </p:cNvSpPr>
          <p:nvPr>
            <p:ph type="dt" idx="1"/>
          </p:nvPr>
        </p:nvSpPr>
        <p:spPr/>
        <p:txBody>
          <a:bodyPr/>
          <a:p>
            <a:fld id="{F9350D39-56CD-497D-8D80-034F4F98EBB7}" type="datetime8">
              <a:rPr lang="en-US"/>
              <a:t>07/28/26 10:45</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6AFC341-CDE5-4C6C-B813-048FE53B44AC}" type="slidenum">
              <a:t>13</a:t>
            </a:fld>
          </a:p>
        </p:txBody>
      </p:sp>
      <p:sp>
        <p:nvSpPr>
          <p:cNvPr id="6" name="PlaceHolder 5"/>
          <p:cNvSpPr>
            <a:spLocks noGrp="1"/>
          </p:cNvSpPr>
          <p:nvPr>
            <p:ph type="dt" idx="1"/>
          </p:nvPr>
        </p:nvSpPr>
        <p:spPr/>
        <p:txBody>
          <a:bodyPr/>
          <a:p>
            <a:fld id="{B16D7230-890B-4670-BEF9-9FB741F318FF}" type="datetime8">
              <a:rPr lang="en-US"/>
              <a:t>07/28/26 10:4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22F875C-50A6-4DD5-B279-E9CCEE13FF04}" type="slidenum">
              <a:t>2</a:t>
            </a:fld>
          </a:p>
        </p:txBody>
      </p:sp>
      <p:sp>
        <p:nvSpPr>
          <p:cNvPr id="6" name="PlaceHolder 5"/>
          <p:cNvSpPr>
            <a:spLocks noGrp="1"/>
          </p:cNvSpPr>
          <p:nvPr>
            <p:ph type="dt" idx="1"/>
          </p:nvPr>
        </p:nvSpPr>
        <p:spPr/>
        <p:txBody>
          <a:bodyPr/>
          <a:p>
            <a:fld id="{AFAB8632-5496-4ACC-9D4E-5B0240888EEB}" type="datetime8">
              <a:rPr lang="en-US"/>
              <a:t>07/28/26 10:4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54091F6-149C-4D44-9FF5-843D55CBF279}" type="slidenum">
              <a:t>3</a:t>
            </a:fld>
          </a:p>
        </p:txBody>
      </p:sp>
      <p:sp>
        <p:nvSpPr>
          <p:cNvPr id="6" name="PlaceHolder 5"/>
          <p:cNvSpPr>
            <a:spLocks noGrp="1"/>
          </p:cNvSpPr>
          <p:nvPr>
            <p:ph type="dt" idx="1"/>
          </p:nvPr>
        </p:nvSpPr>
        <p:spPr/>
        <p:txBody>
          <a:bodyPr/>
          <a:p>
            <a:fld id="{481EA61C-4BF3-4C54-B93A-DBD4B451DEBF}" type="datetime8">
              <a:rPr lang="en-US"/>
              <a:t>07/28/26 10:4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9230735-AC2D-4E99-A702-AA13EC277068}" type="slidenum">
              <a:t>4</a:t>
            </a:fld>
          </a:p>
        </p:txBody>
      </p:sp>
      <p:sp>
        <p:nvSpPr>
          <p:cNvPr id="6" name="PlaceHolder 5"/>
          <p:cNvSpPr>
            <a:spLocks noGrp="1"/>
          </p:cNvSpPr>
          <p:nvPr>
            <p:ph type="dt" idx="1"/>
          </p:nvPr>
        </p:nvSpPr>
        <p:spPr/>
        <p:txBody>
          <a:bodyPr/>
          <a:p>
            <a:fld id="{5011A75C-17F7-4FA9-949B-4D183DC16816}" type="datetime8">
              <a:rPr lang="en-US"/>
              <a:t>07/28/26 10:45</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0534C3A-1371-4B86-A003-79F771E5AC2A}" type="slidenum">
              <a:t>5</a:t>
            </a:fld>
          </a:p>
        </p:txBody>
      </p:sp>
      <p:sp>
        <p:nvSpPr>
          <p:cNvPr id="6" name="PlaceHolder 5"/>
          <p:cNvSpPr>
            <a:spLocks noGrp="1"/>
          </p:cNvSpPr>
          <p:nvPr>
            <p:ph type="dt" idx="1"/>
          </p:nvPr>
        </p:nvSpPr>
        <p:spPr/>
        <p:txBody>
          <a:bodyPr/>
          <a:p>
            <a:fld id="{1640FBD7-3727-4CA9-84FD-824757F992AC}" type="datetime8">
              <a:rPr lang="en-US"/>
              <a:t>07/28/26 10:4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69D1F3F-BF67-4002-81E1-9974E02BA7FC}" type="slidenum">
              <a:t>6</a:t>
            </a:fld>
          </a:p>
        </p:txBody>
      </p:sp>
      <p:sp>
        <p:nvSpPr>
          <p:cNvPr id="6" name="PlaceHolder 5"/>
          <p:cNvSpPr>
            <a:spLocks noGrp="1"/>
          </p:cNvSpPr>
          <p:nvPr>
            <p:ph type="dt" idx="1"/>
          </p:nvPr>
        </p:nvSpPr>
        <p:spPr/>
        <p:txBody>
          <a:bodyPr/>
          <a:p>
            <a:fld id="{2B83FF8E-C1AC-4628-A317-D70BA1291D1B}" type="datetime8">
              <a:rPr lang="en-US"/>
              <a:t>07/28/26 10:45</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7E13C1B-A9A7-45FC-8612-37F782969399}" type="slidenum">
              <a:t>7</a:t>
            </a:fld>
          </a:p>
        </p:txBody>
      </p:sp>
      <p:sp>
        <p:nvSpPr>
          <p:cNvPr id="6" name="PlaceHolder 5"/>
          <p:cNvSpPr>
            <a:spLocks noGrp="1"/>
          </p:cNvSpPr>
          <p:nvPr>
            <p:ph type="dt" idx="1"/>
          </p:nvPr>
        </p:nvSpPr>
        <p:spPr/>
        <p:txBody>
          <a:bodyPr/>
          <a:p>
            <a:fld id="{CD141C36-DFC6-4BF7-A897-9E010FAB654D}" type="datetime8">
              <a:rPr lang="en-US"/>
              <a:t>07/28/26 10:4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D7EAEF9-FB1A-41E1-ADD8-F728937BB5B5}" type="slidenum">
              <a:t>8</a:t>
            </a:fld>
          </a:p>
        </p:txBody>
      </p:sp>
      <p:sp>
        <p:nvSpPr>
          <p:cNvPr id="6" name="PlaceHolder 5"/>
          <p:cNvSpPr>
            <a:spLocks noGrp="1"/>
          </p:cNvSpPr>
          <p:nvPr>
            <p:ph type="dt" idx="1"/>
          </p:nvPr>
        </p:nvSpPr>
        <p:spPr/>
        <p:txBody>
          <a:bodyPr/>
          <a:p>
            <a:fld id="{7F026BDD-213D-4106-AF11-DA969F99527E}" type="datetime8">
              <a:rPr lang="en-US"/>
              <a:t>07/28/26 10:45</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C43ABA4-B228-4A28-86EA-50C32061F459}" type="slidenum">
              <a:t>9</a:t>
            </a:fld>
          </a:p>
        </p:txBody>
      </p:sp>
      <p:sp>
        <p:nvSpPr>
          <p:cNvPr id="6" name="PlaceHolder 5"/>
          <p:cNvSpPr>
            <a:spLocks noGrp="1"/>
          </p:cNvSpPr>
          <p:nvPr>
            <p:ph type="dt" idx="1"/>
          </p:nvPr>
        </p:nvSpPr>
        <p:spPr/>
        <p:txBody>
          <a:bodyPr/>
          <a:p>
            <a:fld id="{F4BF3FED-D22B-4602-A3F6-6C5FADA6D506}" type="datetime8">
              <a:rPr lang="en-US"/>
              <a:t>07/28/26 10:45</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