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E578B-497F-4DD5-99BD-C263AF130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5C50-0112-48E8-8723-F89B2C82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C727E-2D4F-4D79-8EDB-D5D5777A0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9ADC8-0C19-448E-AE87-A64D8B81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7CD0-9346-4B96-A9A7-543A9118C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5442-4541-4F4B-BD8F-A5DB8D93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315A-3BD7-4FA7-B956-5A8966E2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512C8-B16E-46FA-AF38-3B708930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FF0DE-9C46-46AD-B1CF-4501E8E5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574A-33C6-41D2-AFD2-BB823EE1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03F6-CBA0-4E50-A11C-048261D1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B647-728B-4D08-829D-086DFE86C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9DB1-0789-4B1D-B1B6-68DE9DC985BD}"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DEE98718-31FB-4E3D-AE57-12367C9587F6}" type="datetime10">
              <a:rPr b="0" lang="en-US" sz="1400" spc="-1" strike="noStrike">
                <a:solidFill>
                  <a:srgbClr val="000000"/>
                </a:solidFill>
                <a:latin typeface="Times New Roman"/>
              </a:rPr>
              <a:t>22: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2F10-57E3-48ED-91E9-5AA3449BC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17F0377-6C06-4BDD-BBF1-A15FF9C180B2}" type="slidenum">
              <a:t>1</a:t>
            </a:fld>
          </a:p>
        </p:txBody>
      </p:sp>
      <p:sp>
        <p:nvSpPr>
          <p:cNvPr id="6" name="PlaceHolder 5"/>
          <p:cNvSpPr>
            <a:spLocks noGrp="1"/>
          </p:cNvSpPr>
          <p:nvPr>
            <p:ph type="dt" idx="1"/>
          </p:nvPr>
        </p:nvSpPr>
        <p:spPr/>
        <p:txBody>
          <a:bodyPr/>
          <a:p>
            <a:fld id="{C8F8CB23-E314-47BC-9394-117303FABF62}" type="datetime8">
              <a:rPr lang="en-US"/>
              <a:t>07/29/26 22:55</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50FBFC6-1D26-4D5F-85CC-CFAE801C4956}" type="slidenum">
              <a:t>10</a:t>
            </a:fld>
          </a:p>
        </p:txBody>
      </p:sp>
      <p:sp>
        <p:nvSpPr>
          <p:cNvPr id="6" name="PlaceHolder 5"/>
          <p:cNvSpPr>
            <a:spLocks noGrp="1"/>
          </p:cNvSpPr>
          <p:nvPr>
            <p:ph type="dt" idx="1"/>
          </p:nvPr>
        </p:nvSpPr>
        <p:spPr/>
        <p:txBody>
          <a:bodyPr/>
          <a:p>
            <a:fld id="{C5855618-0868-4993-8EC1-127C2E928A92}" type="datetime8">
              <a:rPr lang="en-US"/>
              <a:t>07/29/26 22:5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16F4E29-82C8-4F75-A150-3A53F989AEBA}" type="slidenum">
              <a:t>11</a:t>
            </a:fld>
          </a:p>
        </p:txBody>
      </p:sp>
      <p:sp>
        <p:nvSpPr>
          <p:cNvPr id="6" name="PlaceHolder 5"/>
          <p:cNvSpPr>
            <a:spLocks noGrp="1"/>
          </p:cNvSpPr>
          <p:nvPr>
            <p:ph type="dt" idx="1"/>
          </p:nvPr>
        </p:nvSpPr>
        <p:spPr/>
        <p:txBody>
          <a:bodyPr/>
          <a:p>
            <a:fld id="{96AD80B7-874D-45EE-A383-695FED220F9E}" type="datetime8">
              <a:rPr lang="en-US"/>
              <a:t>07/29/26 22:5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9CFC229-9014-4491-8F4F-6FBB8FF4CC23}" type="slidenum">
              <a:t>12</a:t>
            </a:fld>
          </a:p>
        </p:txBody>
      </p:sp>
      <p:sp>
        <p:nvSpPr>
          <p:cNvPr id="6" name="PlaceHolder 5"/>
          <p:cNvSpPr>
            <a:spLocks noGrp="1"/>
          </p:cNvSpPr>
          <p:nvPr>
            <p:ph type="dt" idx="1"/>
          </p:nvPr>
        </p:nvSpPr>
        <p:spPr/>
        <p:txBody>
          <a:bodyPr/>
          <a:p>
            <a:fld id="{62125FEE-2813-407C-8994-37A9DBD01480}" type="datetime8">
              <a:rPr lang="en-US"/>
              <a:t>07/29/26 22:5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9DE928B-E6BE-4171-A9A0-1066B31ECD8F}" type="slidenum">
              <a:t>13</a:t>
            </a:fld>
          </a:p>
        </p:txBody>
      </p:sp>
      <p:sp>
        <p:nvSpPr>
          <p:cNvPr id="6" name="PlaceHolder 5"/>
          <p:cNvSpPr>
            <a:spLocks noGrp="1"/>
          </p:cNvSpPr>
          <p:nvPr>
            <p:ph type="dt" idx="1"/>
          </p:nvPr>
        </p:nvSpPr>
        <p:spPr/>
        <p:txBody>
          <a:bodyPr/>
          <a:p>
            <a:fld id="{E25247DE-A2FB-4255-8DCA-516D18796986}" type="datetime8">
              <a:rPr lang="en-US"/>
              <a:t>07/29/26 22:5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AAE0D5D-E3EE-4897-AED3-1A07BA54DC24}" type="slidenum">
              <a:t>2</a:t>
            </a:fld>
          </a:p>
        </p:txBody>
      </p:sp>
      <p:sp>
        <p:nvSpPr>
          <p:cNvPr id="6" name="PlaceHolder 5"/>
          <p:cNvSpPr>
            <a:spLocks noGrp="1"/>
          </p:cNvSpPr>
          <p:nvPr>
            <p:ph type="dt" idx="1"/>
          </p:nvPr>
        </p:nvSpPr>
        <p:spPr/>
        <p:txBody>
          <a:bodyPr/>
          <a:p>
            <a:fld id="{ADB38B92-4C42-4D74-8CCF-9EF86D49849B}" type="datetime8">
              <a:rPr lang="en-US"/>
              <a:t>07/29/26 22:5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4E8912C-94CA-40CA-9777-67AE20DCABB2}" type="slidenum">
              <a:t>3</a:t>
            </a:fld>
          </a:p>
        </p:txBody>
      </p:sp>
      <p:sp>
        <p:nvSpPr>
          <p:cNvPr id="6" name="PlaceHolder 5"/>
          <p:cNvSpPr>
            <a:spLocks noGrp="1"/>
          </p:cNvSpPr>
          <p:nvPr>
            <p:ph type="dt" idx="1"/>
          </p:nvPr>
        </p:nvSpPr>
        <p:spPr/>
        <p:txBody>
          <a:bodyPr/>
          <a:p>
            <a:fld id="{69416356-B0CB-4FDC-8446-C32FA91BEFD7}" type="datetime8">
              <a:rPr lang="en-US"/>
              <a:t>07/29/26 22:5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BC23BAF-522B-450E-BF55-8F02C398804B}" type="slidenum">
              <a:t>4</a:t>
            </a:fld>
          </a:p>
        </p:txBody>
      </p:sp>
      <p:sp>
        <p:nvSpPr>
          <p:cNvPr id="6" name="PlaceHolder 5"/>
          <p:cNvSpPr>
            <a:spLocks noGrp="1"/>
          </p:cNvSpPr>
          <p:nvPr>
            <p:ph type="dt" idx="1"/>
          </p:nvPr>
        </p:nvSpPr>
        <p:spPr/>
        <p:txBody>
          <a:bodyPr/>
          <a:p>
            <a:fld id="{BA71CFCD-D247-4872-A1CE-300F11297BF9}" type="datetime8">
              <a:rPr lang="en-US"/>
              <a:t>07/29/26 22:5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72D732C-0F15-4937-AF44-41D39BD9578B}" type="slidenum">
              <a:t>5</a:t>
            </a:fld>
          </a:p>
        </p:txBody>
      </p:sp>
      <p:sp>
        <p:nvSpPr>
          <p:cNvPr id="6" name="PlaceHolder 5"/>
          <p:cNvSpPr>
            <a:spLocks noGrp="1"/>
          </p:cNvSpPr>
          <p:nvPr>
            <p:ph type="dt" idx="1"/>
          </p:nvPr>
        </p:nvSpPr>
        <p:spPr/>
        <p:txBody>
          <a:bodyPr/>
          <a:p>
            <a:fld id="{69127376-A401-4A7B-8A9E-4CDFF9F7DA8E}" type="datetime8">
              <a:rPr lang="en-US"/>
              <a:t>07/29/26 22: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DE5CE99-6DCC-4F28-A4F6-89739670C998}" type="slidenum">
              <a:t>6</a:t>
            </a:fld>
          </a:p>
        </p:txBody>
      </p:sp>
      <p:sp>
        <p:nvSpPr>
          <p:cNvPr id="6" name="PlaceHolder 5"/>
          <p:cNvSpPr>
            <a:spLocks noGrp="1"/>
          </p:cNvSpPr>
          <p:nvPr>
            <p:ph type="dt" idx="1"/>
          </p:nvPr>
        </p:nvSpPr>
        <p:spPr/>
        <p:txBody>
          <a:bodyPr/>
          <a:p>
            <a:fld id="{4DD71772-2F80-462A-9373-490855EF476E}" type="datetime8">
              <a:rPr lang="en-US"/>
              <a:t>07/29/26 22:5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FF486B4-9838-42E6-81F1-B8E8770614B4}" type="slidenum">
              <a:t>7</a:t>
            </a:fld>
          </a:p>
        </p:txBody>
      </p:sp>
      <p:sp>
        <p:nvSpPr>
          <p:cNvPr id="6" name="PlaceHolder 5"/>
          <p:cNvSpPr>
            <a:spLocks noGrp="1"/>
          </p:cNvSpPr>
          <p:nvPr>
            <p:ph type="dt" idx="1"/>
          </p:nvPr>
        </p:nvSpPr>
        <p:spPr/>
        <p:txBody>
          <a:bodyPr/>
          <a:p>
            <a:fld id="{F019DF9C-0B46-4D34-AB33-A46876C2EB3A}" type="datetime8">
              <a:rPr lang="en-US"/>
              <a:t>07/29/26 22:5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E68B584-637C-4E5B-A288-F43FF110725C}" type="slidenum">
              <a:t>8</a:t>
            </a:fld>
          </a:p>
        </p:txBody>
      </p:sp>
      <p:sp>
        <p:nvSpPr>
          <p:cNvPr id="6" name="PlaceHolder 5"/>
          <p:cNvSpPr>
            <a:spLocks noGrp="1"/>
          </p:cNvSpPr>
          <p:nvPr>
            <p:ph type="dt" idx="1"/>
          </p:nvPr>
        </p:nvSpPr>
        <p:spPr/>
        <p:txBody>
          <a:bodyPr/>
          <a:p>
            <a:fld id="{87EA9A29-7F59-461F-82E9-85B7BD1C77E2}" type="datetime8">
              <a:rPr lang="en-US"/>
              <a:t>07/29/26 22:5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D493849-918B-49EE-9C48-6C29FD3E395D}" type="slidenum">
              <a:t>9</a:t>
            </a:fld>
          </a:p>
        </p:txBody>
      </p:sp>
      <p:sp>
        <p:nvSpPr>
          <p:cNvPr id="6" name="PlaceHolder 5"/>
          <p:cNvSpPr>
            <a:spLocks noGrp="1"/>
          </p:cNvSpPr>
          <p:nvPr>
            <p:ph type="dt" idx="1"/>
          </p:nvPr>
        </p:nvSpPr>
        <p:spPr/>
        <p:txBody>
          <a:bodyPr/>
          <a:p>
            <a:fld id="{FBCE4DC8-0979-4A40-A9AF-D3BB439AA619}" type="datetime8">
              <a:rPr lang="en-US"/>
              <a:t>07/29/26 22:5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