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AB418-03D9-410C-B1DF-CB0780781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EB705-0E6E-4E8B-8BF0-1B22C85A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84C0C-D193-4720-82FD-1CC2630B1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8F11D-B797-4381-A7A6-6815FBE85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1BBDC-04DE-40AD-9290-F8D0A2D6D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91F1-DD75-4675-A1CA-D31307870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D065-22DD-44C7-83DF-8BA25ABBF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FEF88-FD4A-41AF-BA49-861B77893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544E3-3A21-4936-95EC-2E067E20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0BE20-A156-454C-8B0C-2E5EC7A8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D80C-9C22-42FE-A811-065BB896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2F6DD-E175-49BD-9037-6A1740526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32CC-D3DF-464E-BD48-2FD1D34681B5}"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F57A5048-1B9E-4701-AF3E-1BA85E067769}" type="datetime10">
              <a:rPr b="0" lang="en-US" sz="1400" spc="-1" strike="noStrike">
                <a:solidFill>
                  <a:srgbClr val="000000"/>
                </a:solidFill>
                <a:latin typeface="Times New Roman"/>
              </a:rPr>
              <a:t>04:1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06EB-A43C-4C56-9BF4-5AEA5E3F9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6826F434-A0DC-44AB-A2C4-90A6FB0C5413}" type="slidenum">
              <a:t>1</a:t>
            </a:fld>
          </a:p>
        </p:txBody>
      </p:sp>
      <p:sp>
        <p:nvSpPr>
          <p:cNvPr id="6" name="PlaceHolder 5"/>
          <p:cNvSpPr>
            <a:spLocks noGrp="1"/>
          </p:cNvSpPr>
          <p:nvPr>
            <p:ph type="dt" idx="1"/>
          </p:nvPr>
        </p:nvSpPr>
        <p:spPr/>
        <p:txBody>
          <a:bodyPr/>
          <a:p>
            <a:fld id="{87FD46D0-488F-4BA5-B495-97E8E79AB50C}" type="datetime8">
              <a:rPr lang="en-US"/>
              <a:t>07/29/26 04:14</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9A20FC6-A391-4E16-A51E-EFD26F3F6730}" type="slidenum">
              <a:t>10</a:t>
            </a:fld>
          </a:p>
        </p:txBody>
      </p:sp>
      <p:sp>
        <p:nvSpPr>
          <p:cNvPr id="6" name="PlaceHolder 5"/>
          <p:cNvSpPr>
            <a:spLocks noGrp="1"/>
          </p:cNvSpPr>
          <p:nvPr>
            <p:ph type="dt" idx="1"/>
          </p:nvPr>
        </p:nvSpPr>
        <p:spPr/>
        <p:txBody>
          <a:bodyPr/>
          <a:p>
            <a:fld id="{6EF5D49C-94A1-4935-8A26-C48B483C381F}" type="datetime8">
              <a:rPr lang="en-US"/>
              <a:t>07/29/26 04:14</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BAFE387-BD57-410E-910E-0D19F32B7B3D}" type="slidenum">
              <a:t>11</a:t>
            </a:fld>
          </a:p>
        </p:txBody>
      </p:sp>
      <p:sp>
        <p:nvSpPr>
          <p:cNvPr id="6" name="PlaceHolder 5"/>
          <p:cNvSpPr>
            <a:spLocks noGrp="1"/>
          </p:cNvSpPr>
          <p:nvPr>
            <p:ph type="dt" idx="1"/>
          </p:nvPr>
        </p:nvSpPr>
        <p:spPr/>
        <p:txBody>
          <a:bodyPr/>
          <a:p>
            <a:fld id="{58CA9321-75F0-4A4C-BCD6-0415615ECD92}" type="datetime8">
              <a:rPr lang="en-US"/>
              <a:t>07/29/26 04:1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811E254-C1AD-490E-BBD3-4893531F88F7}" type="slidenum">
              <a:t>12</a:t>
            </a:fld>
          </a:p>
        </p:txBody>
      </p:sp>
      <p:sp>
        <p:nvSpPr>
          <p:cNvPr id="6" name="PlaceHolder 5"/>
          <p:cNvSpPr>
            <a:spLocks noGrp="1"/>
          </p:cNvSpPr>
          <p:nvPr>
            <p:ph type="dt" idx="1"/>
          </p:nvPr>
        </p:nvSpPr>
        <p:spPr/>
        <p:txBody>
          <a:bodyPr/>
          <a:p>
            <a:fld id="{67A902BB-1855-4948-8405-06037A3ADFF8}" type="datetime8">
              <a:rPr lang="en-US"/>
              <a:t>07/29/26 04:1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C6D99ED-871F-4AC4-B7EE-F590A1E55D53}" type="slidenum">
              <a:t>13</a:t>
            </a:fld>
          </a:p>
        </p:txBody>
      </p:sp>
      <p:sp>
        <p:nvSpPr>
          <p:cNvPr id="6" name="PlaceHolder 5"/>
          <p:cNvSpPr>
            <a:spLocks noGrp="1"/>
          </p:cNvSpPr>
          <p:nvPr>
            <p:ph type="dt" idx="1"/>
          </p:nvPr>
        </p:nvSpPr>
        <p:spPr/>
        <p:txBody>
          <a:bodyPr/>
          <a:p>
            <a:fld id="{0A5DE07E-C2BF-40DE-933C-C268EBF5F37B}" type="datetime8">
              <a:rPr lang="en-US"/>
              <a:t>07/29/26 04: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8C33515-C138-4306-A7F0-C037FEF98D95}" type="slidenum">
              <a:t>2</a:t>
            </a:fld>
          </a:p>
        </p:txBody>
      </p:sp>
      <p:sp>
        <p:nvSpPr>
          <p:cNvPr id="6" name="PlaceHolder 5"/>
          <p:cNvSpPr>
            <a:spLocks noGrp="1"/>
          </p:cNvSpPr>
          <p:nvPr>
            <p:ph type="dt" idx="1"/>
          </p:nvPr>
        </p:nvSpPr>
        <p:spPr/>
        <p:txBody>
          <a:bodyPr/>
          <a:p>
            <a:fld id="{F44F8AE6-E93E-447B-94B2-46901D8C09AC}" type="datetime8">
              <a:rPr lang="en-US"/>
              <a:t>07/29/26 04:1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5ED7EA6-6A72-45D3-8618-C0C950109E50}" type="slidenum">
              <a:t>3</a:t>
            </a:fld>
          </a:p>
        </p:txBody>
      </p:sp>
      <p:sp>
        <p:nvSpPr>
          <p:cNvPr id="6" name="PlaceHolder 5"/>
          <p:cNvSpPr>
            <a:spLocks noGrp="1"/>
          </p:cNvSpPr>
          <p:nvPr>
            <p:ph type="dt" idx="1"/>
          </p:nvPr>
        </p:nvSpPr>
        <p:spPr/>
        <p:txBody>
          <a:bodyPr/>
          <a:p>
            <a:fld id="{A1A1E2C9-9980-42C9-8CE5-20958E782B84}" type="datetime8">
              <a:rPr lang="en-US"/>
              <a:t>07/29/26 04:1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FB6E85A-4A3D-4AFA-B7DA-CDC833B392DC}" type="slidenum">
              <a:t>4</a:t>
            </a:fld>
          </a:p>
        </p:txBody>
      </p:sp>
      <p:sp>
        <p:nvSpPr>
          <p:cNvPr id="6" name="PlaceHolder 5"/>
          <p:cNvSpPr>
            <a:spLocks noGrp="1"/>
          </p:cNvSpPr>
          <p:nvPr>
            <p:ph type="dt" idx="1"/>
          </p:nvPr>
        </p:nvSpPr>
        <p:spPr/>
        <p:txBody>
          <a:bodyPr/>
          <a:p>
            <a:fld id="{1065FD78-EEDC-415F-9B95-CE414C744737}" type="datetime8">
              <a:rPr lang="en-US"/>
              <a:t>07/29/26 04:1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15397C0-B55A-446F-BC5E-9584BCD54326}" type="slidenum">
              <a:t>5</a:t>
            </a:fld>
          </a:p>
        </p:txBody>
      </p:sp>
      <p:sp>
        <p:nvSpPr>
          <p:cNvPr id="6" name="PlaceHolder 5"/>
          <p:cNvSpPr>
            <a:spLocks noGrp="1"/>
          </p:cNvSpPr>
          <p:nvPr>
            <p:ph type="dt" idx="1"/>
          </p:nvPr>
        </p:nvSpPr>
        <p:spPr/>
        <p:txBody>
          <a:bodyPr/>
          <a:p>
            <a:fld id="{A1878367-CB52-4E8D-AB32-34B9D0AFEE29}" type="datetime8">
              <a:rPr lang="en-US"/>
              <a:t>07/29/26 04:1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6E87D3D-2D74-4073-A5B7-8FC192614ADB}" type="slidenum">
              <a:t>6</a:t>
            </a:fld>
          </a:p>
        </p:txBody>
      </p:sp>
      <p:sp>
        <p:nvSpPr>
          <p:cNvPr id="6" name="PlaceHolder 5"/>
          <p:cNvSpPr>
            <a:spLocks noGrp="1"/>
          </p:cNvSpPr>
          <p:nvPr>
            <p:ph type="dt" idx="1"/>
          </p:nvPr>
        </p:nvSpPr>
        <p:spPr/>
        <p:txBody>
          <a:bodyPr/>
          <a:p>
            <a:fld id="{BD0C7DB3-DDED-4FAC-A9F1-301CC94A4BC6}" type="datetime8">
              <a:rPr lang="en-US"/>
              <a:t>07/29/26 04:1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807248F-84EC-425F-A353-55DC0EB540CB}" type="slidenum">
              <a:t>7</a:t>
            </a:fld>
          </a:p>
        </p:txBody>
      </p:sp>
      <p:sp>
        <p:nvSpPr>
          <p:cNvPr id="6" name="PlaceHolder 5"/>
          <p:cNvSpPr>
            <a:spLocks noGrp="1"/>
          </p:cNvSpPr>
          <p:nvPr>
            <p:ph type="dt" idx="1"/>
          </p:nvPr>
        </p:nvSpPr>
        <p:spPr/>
        <p:txBody>
          <a:bodyPr/>
          <a:p>
            <a:fld id="{CAB4DDFE-83E7-4773-B60D-48DC905CB903}" type="datetime8">
              <a:rPr lang="en-US"/>
              <a:t>07/29/26 04:1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B5FC885-41C0-44A4-9389-9AACA8B45E69}" type="slidenum">
              <a:t>8</a:t>
            </a:fld>
          </a:p>
        </p:txBody>
      </p:sp>
      <p:sp>
        <p:nvSpPr>
          <p:cNvPr id="6" name="PlaceHolder 5"/>
          <p:cNvSpPr>
            <a:spLocks noGrp="1"/>
          </p:cNvSpPr>
          <p:nvPr>
            <p:ph type="dt" idx="1"/>
          </p:nvPr>
        </p:nvSpPr>
        <p:spPr/>
        <p:txBody>
          <a:bodyPr/>
          <a:p>
            <a:fld id="{C6D4076D-2A2F-4BC3-A609-2B9E63B543EB}" type="datetime8">
              <a:rPr lang="en-US"/>
              <a:t>07/29/26 04:1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F80037D-CBD6-4046-AEAB-C62D6994EC8E}" type="slidenum">
              <a:t>9</a:t>
            </a:fld>
          </a:p>
        </p:txBody>
      </p:sp>
      <p:sp>
        <p:nvSpPr>
          <p:cNvPr id="6" name="PlaceHolder 5"/>
          <p:cNvSpPr>
            <a:spLocks noGrp="1"/>
          </p:cNvSpPr>
          <p:nvPr>
            <p:ph type="dt" idx="1"/>
          </p:nvPr>
        </p:nvSpPr>
        <p:spPr/>
        <p:txBody>
          <a:bodyPr/>
          <a:p>
            <a:fld id="{29D96421-99A7-4CD2-B9C0-46058D11DC97}" type="datetime8">
              <a:rPr lang="en-US"/>
              <a:t>07/29/26 04:1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